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move the slide</a:t>
            </a:r>
            <a:endParaRPr b="0" lang="en-US" sz="46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FF1D5-0CC0-4BF7-8E41-460EAD6DF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as he, what happened to him, and wh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ed to him put racism into an international spotlight in the S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een years old, afriacna america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a lot of tension due to the new law stating segregation in schools was fin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 Klux Klan decided to step in and take violent illegal action against blacks to try and make things back to how they used to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nching - putting a person to death by mob action without due process of law ;  all of the mob activity was around the area where Till was go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tried to explain he had to be more courteous to whites in Mississippi. Took a train to Mississippi to visit relatives. Inside candy store he said, “bye, bye.” to the clerk or he whistled on his way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s later a man came into his house and explained to his uncle that he was just going to whip him for his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old the uncle not to tell anyone or he would be kill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days after they took Till, his mother was notified of her son’s kidnapping.  The two men were arrested.  They found his body in the Tallahatchie River.  His body was weighted down by a 75 pound cotton gin that was tied around his neck with barbed wir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ce was mutated so that the only way to identify him was a ring from his deceased 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eye missing, nose broken and a hole in the side of his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casket funeral so that everyone could know what had happ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t magazine took photos and soon his murder became and international ca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27829-DA9A-46F5-93BD-6A6FF332C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50655-838D-46F6-B543-65590727A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B1EA4-5061-4B49-8A96-FD3D192E0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424A1-7BA8-408D-81BE-F99BC0767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096F92-6A79-42B3-878D-EDAACF60B6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4BD9F-42AB-43EF-9F94-685D7CD7B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4C76C-9CCC-42D1-BEED-D79D1B3C0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4A2238-0359-412F-88E7-718E69649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262CC6-623B-4E04-80A9-D3B109630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EB38C-64D6-4F67-B353-832C48B14B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0AF9A-1EDA-44B0-903C-CCDEE9303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97B08-A2F0-4C4A-946C-DB496295E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F9276-8BFF-45CF-B0FD-E6F2CEE1C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21C82-42B2-4EFF-B12C-3B2F51C44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2C843-7C58-4FB4-8D87-8D639DE87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D6A1A5-8F4C-4A64-AEAD-B5C548AC20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55AF87-2D98-4E58-A977-1BC36FFA69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6B140-486A-4AC9-8E7A-0908EB5E9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B209D-3F9C-403A-AAF0-330D45A57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1C792-FCF2-4302-AF35-DF741CAEC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C0CB7-6CB9-4812-A407-A3252CD94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D8DAF-BAFE-45E4-B3CF-4038A228E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51FEA-C289-4BCA-AD72-91740830A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F82FD-5489-41C1-A6F2-18A81886CF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152280"/>
              <a:ext cx="8534520" cy="1219320"/>
            </a:xfrm>
            <a:prstGeom prst="pie">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1219320"/>
              <a:ext cx="8077320" cy="0"/>
            </a:xfrm>
            <a:prstGeom prst="line">
              <a:avLst/>
            </a:prstGeom>
            <a:ln w="38160">
              <a:solidFill>
                <a:srgbClr val="35441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0897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808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57001-39D8-4080-855F-63830E74CD07}" type="slidenum">
              <a:rPr b="0" lang="en-US" sz="1200" spc="-1" strike="noStrike">
                <a:solidFill>
                  <a:srgbClr val="ffffff"/>
                </a:solidFill>
                <a:latin typeface="Arial Blac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228600" y="927000"/>
              <a:ext cx="7162920" cy="990720"/>
            </a:xfrm>
            <a:prstGeom prst="rect">
              <a:avLst/>
            </a:prstGeom>
            <a:solidFill>
              <a:srgbClr val="354418"/>
            </a:solidFill>
            <a:ln w="5724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0" y="1384200"/>
              <a:ext cx="8991720" cy="1828800"/>
            </a:xfrm>
            <a:prstGeom prst="pie">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0" y="3060720"/>
              <a:ext cx="8305920" cy="0"/>
            </a:xfrm>
            <a:prstGeom prst="line">
              <a:avLst/>
            </a:prstGeom>
            <a:ln w="50760">
              <a:solidFill>
                <a:srgbClr val="35441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B172E-A5A8-43A7-9E5D-04485F11BBAF}" type="slidenum">
              <a:rPr b="0" lang="en-US" sz="1200" spc="-1" strike="noStrike">
                <a:solidFill>
                  <a:srgbClr val="ffffff"/>
                </a:solidFill>
                <a:latin typeface="Arial Black"/>
              </a:rPr>
              <a:t>&lt;number&gt;</a:t>
            </a:fld>
            <a:endParaRPr b="0" lang="en-US" sz="1200" spc="-1" strike="noStrike">
              <a:solidFill>
                <a:srgbClr val="ffffff"/>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8000"/>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b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29528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Arial"/>
              </a:rPr>
              <a:t>Emmett Till.</a:t>
            </a:r>
            <a:endParaRPr b="0" lang="en-US" sz="5600" spc="-1" strike="noStrike">
              <a:solidFill>
                <a:srgbClr val="ffffff"/>
              </a:solidFill>
              <a:latin typeface="Arial"/>
            </a:endParaRPr>
          </a:p>
        </p:txBody>
      </p:sp>
      <p:pic>
        <p:nvPicPr>
          <p:cNvPr id="99" name="" descr=""/>
          <p:cNvPicPr/>
          <p:nvPr/>
        </p:nvPicPr>
        <p:blipFill>
          <a:blip r:embed="rId1"/>
          <a:stretch/>
        </p:blipFill>
        <p:spPr>
          <a:xfrm>
            <a:off x="4038480" y="1600200"/>
            <a:ext cx="458964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o was he?</a:t>
            </a:r>
            <a:endParaRPr b="0" lang="en-US" sz="4200" spc="-1" strike="noStrike">
              <a:solidFill>
                <a:srgbClr val="ffffff"/>
              </a:solidFill>
              <a:latin typeface="Arial"/>
            </a:endParaRPr>
          </a:p>
        </p:txBody>
      </p:sp>
      <p:sp>
        <p:nvSpPr>
          <p:cNvPr id="10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90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mmett Louis Till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02" name="" descr=""/>
          <p:cNvPicPr/>
          <p:nvPr/>
        </p:nvPicPr>
        <p:blipFill>
          <a:blip r:embed="rId1"/>
          <a:stretch/>
        </p:blipFill>
        <p:spPr>
          <a:xfrm>
            <a:off x="1600200" y="2133720"/>
            <a:ext cx="5791320" cy="42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e-segregation in schools creating tension.</a:t>
            </a:r>
            <a:endParaRPr b="0" lang="en-US" sz="3800" spc="-1" strike="noStrike">
              <a:solidFill>
                <a:srgbClr val="ffffff"/>
              </a:solidFill>
              <a:latin typeface="Arial"/>
            </a:endParaRPr>
          </a:p>
        </p:txBody>
      </p:sp>
      <p:pic>
        <p:nvPicPr>
          <p:cNvPr id="104" name="" descr=""/>
          <p:cNvPicPr/>
          <p:nvPr/>
        </p:nvPicPr>
        <p:blipFill>
          <a:blip r:embed="rId1"/>
          <a:stretch/>
        </p:blipFill>
        <p:spPr>
          <a:xfrm>
            <a:off x="1295280" y="2438280"/>
            <a:ext cx="571500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acism.</a:t>
            </a:r>
            <a:endParaRPr b="0" lang="en-US" sz="4200" spc="-1" strike="noStrike">
              <a:solidFill>
                <a:srgbClr val="ffffff"/>
              </a:solidFill>
              <a:latin typeface="Arial"/>
            </a:endParaRPr>
          </a:p>
        </p:txBody>
      </p:sp>
      <p:pic>
        <p:nvPicPr>
          <p:cNvPr id="106" name="" descr=""/>
          <p:cNvPicPr/>
          <p:nvPr/>
        </p:nvPicPr>
        <p:blipFill>
          <a:blip r:embed="rId1"/>
          <a:stretch/>
        </p:blipFill>
        <p:spPr>
          <a:xfrm>
            <a:off x="609480" y="1600200"/>
            <a:ext cx="4357800" cy="4419720"/>
          </a:xfrm>
          <a:prstGeom prst="rect">
            <a:avLst/>
          </a:prstGeom>
          <a:ln w="0">
            <a:noFill/>
          </a:ln>
        </p:spPr>
      </p:pic>
      <p:pic>
        <p:nvPicPr>
          <p:cNvPr id="107" name="" descr=""/>
          <p:cNvPicPr/>
          <p:nvPr/>
        </p:nvPicPr>
        <p:blipFill>
          <a:blip r:embed="rId2"/>
          <a:stretch/>
        </p:blipFill>
        <p:spPr>
          <a:xfrm>
            <a:off x="5334120" y="1828800"/>
            <a:ext cx="305748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at happened to him?</a:t>
            </a:r>
            <a:endParaRPr b="0" lang="en-US" sz="4200" spc="-1" strike="noStrike">
              <a:solidFill>
                <a:srgbClr val="ffffff"/>
              </a:solidFill>
              <a:latin typeface="Arial"/>
            </a:endParaRPr>
          </a:p>
        </p:txBody>
      </p:sp>
      <p:pic>
        <p:nvPicPr>
          <p:cNvPr id="109" name="" descr=""/>
          <p:cNvPicPr/>
          <p:nvPr/>
        </p:nvPicPr>
        <p:blipFill>
          <a:blip r:embed="rId1"/>
          <a:stretch/>
        </p:blipFill>
        <p:spPr>
          <a:xfrm>
            <a:off x="533520" y="1447920"/>
            <a:ext cx="7086600" cy="473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at did they do to him?</a:t>
            </a:r>
            <a:endParaRPr b="0" lang="en-US" sz="4200" spc="-1" strike="noStrike">
              <a:solidFill>
                <a:srgbClr val="ffffff"/>
              </a:solidFill>
              <a:latin typeface="Arial"/>
            </a:endParaRPr>
          </a:p>
        </p:txBody>
      </p:sp>
      <p:pic>
        <p:nvPicPr>
          <p:cNvPr id="111" name="" descr="riverrocks.jpg image by wileyproductions"/>
          <p:cNvPicPr/>
          <p:nvPr/>
        </p:nvPicPr>
        <p:blipFill>
          <a:blip r:embed="rId1"/>
          <a:stretch/>
        </p:blipFill>
        <p:spPr>
          <a:xfrm>
            <a:off x="1219320" y="1523880"/>
            <a:ext cx="6276960" cy="448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entification</a:t>
            </a:r>
            <a:endParaRPr b="0" lang="en-US" sz="4200" spc="-1" strike="noStrike">
              <a:solidFill>
                <a:srgbClr val="ffffff"/>
              </a:solidFill>
              <a:latin typeface="Arial"/>
            </a:endParaRPr>
          </a:p>
        </p:txBody>
      </p:sp>
      <p:pic>
        <p:nvPicPr>
          <p:cNvPr id="113" name="" descr=""/>
          <p:cNvPicPr/>
          <p:nvPr/>
        </p:nvPicPr>
        <p:blipFill>
          <a:blip r:embed="rId1"/>
          <a:stretch/>
        </p:blipFill>
        <p:spPr>
          <a:xfrm>
            <a:off x="2362320" y="1143000"/>
            <a:ext cx="3435120" cy="487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7T13:21:39Z</dcterms:created>
  <dc:creator>Milford Public Schools</dc:creator>
  <dc:description/>
  <dc:language>en-US</dc:language>
  <cp:lastModifiedBy>Milford Public Schools</cp:lastModifiedBy>
  <dcterms:modified xsi:type="dcterms:W3CDTF">2009-03-27T14:02:43Z</dcterms:modified>
  <cp:revision>2</cp:revision>
  <dc:subject/>
  <dc:title>Emmett Till</dc:title>
</cp:coreProperties>
</file>